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2230"/>
        <c:axId val="48359084"/>
      </c:barChart>
      <c:catAx>
        <c:axId val="449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59084"/>
        <c:crosses val="autoZero"/>
        <c:auto val="1"/>
        <c:lblAlgn val="ctr"/>
        <c:lblOffset val="100"/>
        <c:noMultiLvlLbl val="0"/>
      </c:catAx>
      <c:valAx>
        <c:axId val="48359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985-67B4-464D-AE90-BA7C09D0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AE7-9DB7-4055-A5C2-CE093ED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3D1-D631-442D-AA88-1B5B72FD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1DA-9B61-45EB-A655-D37793E6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7AB-F246-4816-882D-5F6D309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4AC-A760-4124-99C5-6E2752FB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6C7-422D-4DCD-82C3-4BD5B8B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EC4-CFDF-4775-90BB-45FD87A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F25-193D-4563-997B-3CD73F67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5B4-17EE-4FEE-ADB2-828341C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12E-4DC0-4176-B0E0-F035445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081-076A-4410-8337-CD400DB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9127-3115-4777-B720-6766563FD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