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89314"/>
        <c:axId val="9285851"/>
      </c:barChart>
      <c:catAx>
        <c:axId val="86189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5851"/>
        <c:crosses val="autoZero"/>
        <c:auto val="1"/>
        <c:lblAlgn val="ctr"/>
        <c:lblOffset val="100"/>
        <c:noMultiLvlLbl val="0"/>
      </c:catAx>
      <c:valAx>
        <c:axId val="92858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89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563B-A5C7-4635-BA19-13CD5AC90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6F5-CD69-4A20-A360-A7F122EE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BE2-B3B7-4985-83D9-B84701CEC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F8FE-41A5-48E8-9A4A-5144743D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026-862D-433C-A73C-89AA8171B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5C9-BD0C-455A-AA5A-0303FA06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2043-EFA2-4338-95CC-84AAA7E8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1CC-34C8-42C7-8E99-C64BD3FA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0BF0-C33F-4214-B049-EBC8CF2C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71F-69D8-4230-9C94-7E78A30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C000-FE3B-4E7E-9B90-2FF2B4CC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41A9-A4E6-40E8-AA0F-E753A573D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DED8B-3C90-48FF-AFA2-982DB307817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