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FD49-CF0A-41B2-A24B-DD647B61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29CE-EFFF-409F-A8D2-6213BCF3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6EEB-F5B4-4BD7-8FFC-AD041FF5D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B8E9-44D5-460D-8D05-D93C9E1CA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E9DB-B34B-4008-AEDE-466AB2D8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C909-6542-478F-BF96-83760D84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06E2-E61D-4DFE-9184-B73C127E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BEA9-AFC6-4BA8-89C1-5751C292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006B-0112-4A1D-BAC1-D3B9F4EC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E9F0-B325-4916-9290-064B56B4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01A0-F274-4B3E-8F8A-01127EB3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FA70-CEC0-4A97-B6E3-8A051F6D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DFD2-1780-4939-BE8D-4CFDC028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ECAF-B314-4398-A419-6E228565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06CB-BDF3-4081-8B5D-048873A9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4942-B691-4E21-8FD1-F51FA7202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CBC2-A138-4EF3-BB6E-F8307B4C6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D642-D3A4-4E3C-B018-F699CCD1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2957-B479-4D8C-BB95-F9E780C7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CD40-FA9F-40BD-8267-FEF6CA18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D7D1-6E6A-4D91-AFF3-B3A5E210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F068-153C-4005-BAF7-E6103B57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E2DC-CC7C-4167-A324-F1D6B479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B313-3793-4421-921A-7FF3482D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4AAC-3DD0-42F2-83DB-8CD9D54F7081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E87F6-9AAF-4986-B189-2C4079FCDF07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eppp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Morikawa Yasuhi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4 EPnetFan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EPnetFaN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9999ff"/>
                </a:solidFill>
                <a:latin typeface="Tahoma"/>
              </a:rPr>
              <a:t>Earth and Planetaly science network FaNclub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ep.sci.hokudai.ac.jp/~epnetfan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パクら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をパクら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ep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E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netFaN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作成した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(?)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ep.sci.hokudai.ac.jp/~morikawa/perl/epppt/epppt.tar.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移動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パスを通してもいいけど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2298600" y="4586400"/>
            <a:ext cx="50878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eppp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09760" y="5689440"/>
            <a:ext cx="6581520" cy="8254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epppt/epppt.pl /usr/local/bi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P2H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p2h.ex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http://www.soi.wide.ad.jp/doc/mate/detail.html)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http://www.soi.wide.ad.jp/soibeans/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OI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WIDE University, School of Internet)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http://www.soi.wide.ad.jp/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gt;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にて開発された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werpoint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スライド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gif, jpeg, png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また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変換する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ツール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Windows98/2000/XP + Office2000/XP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ep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ep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ep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2H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用い、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pt (PowerPoint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ァイル から画像ファイルを生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用 –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640x480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～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800x6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用 –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00x150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～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40x1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タイトルを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title.tx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に書き込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に書き込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5334120"/>
            <a:ext cx="5333760" cy="131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ep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epppt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003: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31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資源を、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用画像、サムネイル用画像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title.txt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menu.t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title.txt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等のあるディレクトリ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525780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ep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Config.ep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$style_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$thumbnail_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サムネイルの列の数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$thumbnail_col_num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4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出来上が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672640" y="25909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ep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epppt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4876560" cy="28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Morikawa Yasuhiro</cp:lastModifiedBy>
  <dcterms:modified xsi:type="dcterms:W3CDTF">2004-02-03T10:29:16Z</dcterms:modified>
  <cp:revision>34</cp:revision>
  <dc:subject/>
  <dc:title>PowerPoint スライドからの HTML 作成支援ツール epppt</dc:title>
</cp:coreProperties>
</file>