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F27-8E9D-41CB-92ED-270C5A3B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90D-BF4A-4FEE-859C-1308A0B3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460-3146-4848-AAC1-A7023BF7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CE92-E618-41EC-9EBE-8A061FCD8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ACC9-E00E-4E0D-A16F-4A725D63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EAEA-0399-4C49-92ED-A5D88D24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3E32-0B4D-4B46-B2F6-5EEBEA34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1737-3179-4B52-B709-36E6BB58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132F-4FF7-413D-8FFC-44CF10C9C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9E7E-827F-4476-A17D-0CCCCBE8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929-B4CD-4966-93F2-741EC59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6F9-AF9B-4BBB-9AD3-6AF12DC2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FF28-A415-4609-A9D8-19828BF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BB7A0-7C05-4478-9406-81C46A7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42F0-34B3-4FC5-B4B8-5C9148FC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501-B8BA-4DD9-AE1D-3AF49FA9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1C47-0F15-4E16-BB69-0139FC2D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E5CF-C99D-4F3F-9F2A-31CC2611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40E6-9FDE-4F93-BB4C-D9C9E211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AFC-9B05-48AA-AB2B-D8E82534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7026-9126-42B0-89CB-1CCAC392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0EB1-8AC1-45AF-A131-36F1C70A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A0F-FC78-4B06-A4F2-71877FC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879-2C5E-4C39-9C37-882ECCEC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09F0-C5EF-4152-AA1D-415FD377CA62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F5AC-017D-4D9A-BF7A-A831F1928CA9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orikawa Yasuh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4 EPnetFan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EPnetFaN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9999ff"/>
                </a:solidFill>
                <a:latin typeface="Tahoma"/>
              </a:rPr>
              <a:t>Earth and Planetaly science network FaNclub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ep.sci.hokudai.ac.jp/~epnetfan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をパクら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ep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E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netFaN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作成した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(?)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ep.sci.hokudai.ac.jp/~morikawa/perl/epppt/epppt.tar.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移動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パスを通してもいいけど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2298600" y="4586400"/>
            <a:ext cx="508788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eppp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09760" y="5689440"/>
            <a:ext cx="6581520" cy="8254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epppt/epppt.pl /usr/local/bi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p2h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doc/mate/detail.html)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(http://www.soi.wide.ad.jp/soibeans/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OI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WIDE University, School of Internet)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tp://www.soi.wide.ad.jp/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gt;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にて開発された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werpoin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スライド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gif, jpeg, png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また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変換する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ツール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Windows98/2000/XP + Office2000/XP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ep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ep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2H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用い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pt (PowerPoint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ァイル から画像ファイルを生成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640x48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800x6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用 –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00x150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～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40x18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タイトル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title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に書き込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5334120"/>
            <a:ext cx="5333760" cy="131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epppt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003: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20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31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資源を、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用画像、サムネイル用画像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title.txt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等のあるディレクトリ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525780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Config.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style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$thumbnail_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サムネイルの列の数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$thumbnail_col_num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出来上がり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672640" y="25909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ep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epppt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487656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Morikawa Yasuhiro</cp:lastModifiedBy>
  <dcterms:modified xsi:type="dcterms:W3CDTF">2004-02-03T10:29:16Z</dcterms:modified>
  <cp:revision>34</cp:revision>
  <dc:subject/>
  <dc:title>PowerPoint スライドからの HTML 作成支援ツール epppt</dc:title>
</cp:coreProperties>
</file>