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E6D7-BC6B-4F49-A825-CEDCDD2A9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C7E7-DE80-4BE9-86CF-3B5686A5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BF92-96E3-439D-A27D-EF0AFFB18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61BE-5457-4BE7-8133-8D1DCFEEC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A00C-962C-4D78-892F-6FCC5AB03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6ED0-5B9D-4582-9BA8-C540822F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C964-E19E-48E5-9375-65B90B7C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1F7E-8DBF-497E-BD5A-94EBD2CD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D4D1-695E-443F-99E1-4D4C195F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FE4E-C6F0-4DC3-9F03-EECF6C58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4433-C219-4FC9-B25C-F27BCEBD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0EF8-9A06-44A4-BC5F-BFC5A640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7617-FBD0-4C5F-9EF2-44843980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7124-3F44-4A76-81FE-421F66F7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C381-C3B2-4383-B19E-EA9464A7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E8F5-B476-4063-A399-3B291435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E4D0-126C-4B9E-BF90-E2011D6A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BE0A-D95E-4DE2-8E63-824EF578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AD47-A99B-4AB8-963F-A163BC75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5F79-EF06-44E2-806A-9261F08A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0425-5C3D-4B72-8E6F-6E93CC34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13A4-9C2B-4227-8F4F-D96D1F79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3E9E-A5AE-4E54-A367-E52CD0D6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3DEA-9A98-49F7-AECF-2EB27C9E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C1B1-10A2-4F32-9329-05DC6B9C4BC8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F194-E117-4E68-8B81-52BE47B13B7C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ep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Morikawa Yasuhi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4 EPnetFan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EPnetFaN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9999ff"/>
                </a:solidFill>
                <a:latin typeface="Tahoma"/>
              </a:rPr>
              <a:t>Earth and Planetaly science network FaNclub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ep.sci.hokudai.ac.jp/~epnetfan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ep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ep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ep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ep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ep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ep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ep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ep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ep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ep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ep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ep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E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netFaN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作成した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(?)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ep.sci.hokudai.ac.jp/~morikawa/perl/epppt/epppt.tar.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移動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パスを通してもいいけど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2298600" y="4586400"/>
            <a:ext cx="50878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eppp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09760" y="5689440"/>
            <a:ext cx="6581520" cy="8254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epppt/epppt.pl /usr/local/bi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ep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ep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ep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ep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ep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ep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ep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ep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epppt3.3" descr=""/>
          <p:cNvPicPr/>
          <p:nvPr/>
        </p:nvPicPr>
        <p:blipFill>
          <a:blip r:embed="rId1"/>
          <a:stretch/>
        </p:blipFill>
        <p:spPr>
          <a:xfrm>
            <a:off x="2057400" y="3124080"/>
            <a:ext cx="5638680" cy="33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ep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ep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ep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ep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ep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ep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 靖大</cp:lastModifiedBy>
  <dcterms:modified xsi:type="dcterms:W3CDTF">2004-11-06T15:56:21Z</dcterms:modified>
  <cp:revision>54</cp:revision>
  <dc:subject/>
  <dc:title>PowerPoint スライドからの HTML 作成支援ツール epppt</dc:title>
</cp:coreProperties>
</file>