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190019-BC92-4A11-9E20-9C8641FA2A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22EF80-238F-40E2-8231-56BC46A114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D1C031-9726-46FA-AD96-0E93F74465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0C8772-EFAF-4106-B8D7-1CA48D0C92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473B717-4360-4153-B39F-D8646B27151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9D9377-9267-4EC7-81A1-1786C2DC13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066962-97E0-4195-B4E2-20F151BD4A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5FF5B9-FED7-4BA5-91E5-3EED983456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F14356-C603-40CD-807D-FE639E798C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B64842-5EB1-4653-82C6-E42A843DB3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B6A1F6-35A6-40F5-B565-D23E8F7483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76DF90-49C3-4305-A404-0BCA85D0C7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00BB14-819B-4D8E-B132-D73C4D8CE9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508A0A-73C0-4EF8-9A2E-48AADA1726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6E9D9C-6379-455F-BEF5-EC45FFA0C8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4571006-29A2-4BEA-81F9-3F4F97EC506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35B7503-B10F-42B1-B774-E3527F02737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6337C1-E409-4A14-A691-D586C0DFED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D70239-9E4A-412B-8364-3BCF88BCEA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8A6851-7AAA-4C1E-9737-3AC2DD8D5B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2F4934-63D5-4F88-B3C3-92ADC1B1C1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97DBD4-4D3A-4027-AC6C-EC38E766A2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926942-8209-4533-BDE1-6E75D50CA2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93F2F5-C4B3-4D69-9B03-835ABB4D945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D926D9-26B5-4278-B973-66980066E7B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982B42-C169-4AF1-BCED-6DBF09AFE41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51064FB-3B82-40C0-9A15-C490680386E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D02239F-D1D5-4C3C-896D-E7A67F4976CD}"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1A99CF-132B-4EFB-9D3C-FA23D4500651}"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4200AE-2388-4EB8-AD66-E473DC8D6CCF}"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947923-BDAA-410F-833F-173AA0937BF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CCABC2-999D-4C2F-B4DF-055C22796F80}"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D88948-848A-495C-9ECF-4DEB0E61C671}"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6A3941-955E-43A8-8034-459B9FEE65A0}"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CA0A99-1210-41C7-A4BD-41F10B155A19}"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A12162-85FA-424A-93C7-CEF7ADA677BA}"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D5F16A-B4CE-4EC0-A859-A3B6CDBB8EBF}"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FBEE49-43DD-4D52-941A-D465FFD58074}"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3D8253-2069-459B-9DB2-1C6CDA238F44}"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BE69DF-2E9B-493A-9CE0-B207DAD3EE01}"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014AFF-FC43-4E02-93B8-3E11BF322016}"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4A2521-4136-4C08-BE89-40F3316386CA}"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813F29-7BAD-4BA6-B9B2-B58B8620C8FA}"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28CCB1-4761-4BEA-9C98-0E0173A55CD5}"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81534E-020D-41F1-BA86-F04F912E4EF8}"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789C0E-5EB7-4CEE-A6BB-3BC2428C148A}"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F42FBF-F16A-47F5-B3A5-E0B7350C9E13}"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048A5D-29D5-4E24-93F9-E6F449CED72B}"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F46685-0EAD-4BCF-B6B7-B05A98A0142E}"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077612-DC7E-4429-824E-429CD29E7774}"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60D4F6-E0C5-4F56-93D0-A1D0CEA73EC7}"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8468A3-66F5-4928-817A-EFEB420A4414}"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95604E-FE60-41FD-BA36-D5556550F6FA}"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C63FF88-170F-4AA1-9F60-B72920A26A69}"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4AF838-D1F5-4E46-8FD5-D1A7F07CD0B1}"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7D1210-D820-4E76-BFC9-03AB4DA058B8}"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B7B68D-A4B9-4DBE-A129-058A4C841A07}"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94A0A9-E10D-4708-8874-195FD19B3AD1}"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161D5A-6490-490F-9F79-63696DF0E19B}"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3BCC06-C3DC-4099-9408-BDA1C33A0EE6}"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C624CC-43E9-4ABB-95ED-03A1A5A43652}"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D0CD88-179C-411E-9C11-132858E414D8}"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F9DA7B-5B2D-41EA-8DB4-DDBCAE2F7C0A}"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EA8ED4-EDE3-4235-8E4C-0F79B56327DC}"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61D3D3-E3D2-4761-AC23-F14CF68D4318}"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92C63D-FC51-4580-B00E-ED0AF7B68239}"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5765EE-8C62-48D6-9DFD-9625B795E00E}"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856D07-E88C-4BC9-AE5B-4165E29BAE43}"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DD6B4E-0F52-4941-9502-43BEA8A37037}"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AEFE39-4828-4E30-9CB8-62106C8BC77A}"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DCAFEF-123B-43B2-A2FD-B8D4207A604E}"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F712DB-53B7-45CB-AACD-E14C04ABE04C}"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D57AD3-EAC3-4C44-8A0D-99CDAD0B75D9}"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C4350F-E144-4A6D-9190-4873EA9EC789}"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7D3F317-C9E9-47AB-9B2D-DF19709BFAC4}"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339039-D7E1-4B60-8FD0-E2B7F6726AAD}"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E95F20-92FA-4EF1-84B8-6EF319BAD273}"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D1E1B47-020D-4D62-9494-6992756E1C55}"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5F32EF-B64B-4F6A-A256-4F926658D740}"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4955EE-08F0-4A1E-A72A-AB96E40D8531}"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275542-6638-4BAD-8C9C-EC79D3A88919}"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BAC250-D79B-4BC6-8992-7F612B76461A}"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16481D-602F-4E3C-8777-212DEB620AFF}"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F643E7-4034-44FF-BD0E-5DF30E1D1CD9}"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BB9118-C044-4347-98A2-DAECC708E571}"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994C2E7-A425-4E2E-9458-7A6D6D85A45C}"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8AE852-791A-4965-98DF-7277B13FFD06}"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AF7B48-FE19-4698-90EF-C2E914C2FBB6}"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B5EC85-8DB4-4E28-9A2F-F1A5FA3EAB44}"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C6575A-678B-4E13-AA74-2034498A93A0}"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212A04-275A-4AFB-B06B-A7D6025BA23E}"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EF92040-7EE2-4AC8-8CF3-C561F373B3BA}"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CD7EFA-9995-48BB-85AA-C48792CD76A4}"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DE1157-5179-4B3B-AA99-3D37808F320D}"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E895F4-413A-4757-B894-81340560B378}"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1299AC-2561-411C-A072-DB19C3FC9C06}"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6B0E5A7-E786-4768-9CF9-9186F42CF6A6}"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3544BC-A46E-45D1-A829-E1871949D8C6}"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E638BA-5310-48E5-A5E8-AB63C008CA4E}"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4A8988-C9AD-415F-AB9E-E9DBF58BEB9C}"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54395A-E6C9-4D98-BA04-B805283E89D3}"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08FB8A-E890-425C-A415-98D3F7975F8D}"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E14093-EE62-40DD-A615-34B662C55903}"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A9DE053-AA0E-417E-946F-5F9553312FCB}"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149E9C-7D91-450E-9382-F4E351DF54F2}"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EE0857-9963-4BD4-835C-1672EE7F0779}"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3A4AD9-5E53-4C4E-884A-EFB31B01BB54}"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94F1CCA-24B9-4222-BC24-FC84C97EF9A1}"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14E556-997A-4B0F-A723-E225CF541AA8}"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2A39A75-2CFD-4143-B379-C55B590F9040}"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D237B3-CF8E-4F93-A4BD-3363AA9E1D7D}"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F10F8C-5D90-4C4A-863B-8C4419064BBC}"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BC1086-287E-4281-886D-2B2CBF6607B7}"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7ED55F-978D-4EC2-8913-A577E269F42A}"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617C8E-ABDD-403B-A27B-2B865CA9DC2D}"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1145B8-937B-492F-9B0D-09FD2FA5B722}"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9616AA-11DC-422D-99F2-F50EF8F421D4}"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9FEBFB-9F50-472F-8078-D27BE45EE017}"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B7DC79-8071-4E41-B249-A402358B2F35}"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187282-6730-415C-8D35-E4638C9081C1}"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D02932-3828-439B-BCA5-1EAE38FDB290}"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88838A-6328-4446-928E-01E61A3E5B25}"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140EA0-F506-4D85-A910-50845AA2D6AE}"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B171B8-07C3-4080-88D7-9219EBDC2940}"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1BDBAB-6FE3-4A21-8D3B-E962AD164B06}"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2955B82-5E0C-4075-9073-7B16E0C055B0}"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1387D2-3650-4253-9D66-9484100B8FF0}"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9D3807-F579-4BFD-A9CE-9E9A72E36844}"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4B67AD-642F-4A2E-BE70-C26AA4DBD61D}"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1CB393-522B-4CEC-A668-E11741F4E137}"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DCA90F-EB72-48C0-A7C7-F49F6BC681A8}"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637B24-844A-4AAA-8D26-E2DE9538FB31}"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1C8511-8751-4074-BBFF-E618D90C435D}"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0F5AD6-5F43-4191-938B-8758715143A4}"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1ECE3E-C295-446F-AA77-C8262CF62396}"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783D4E-21F4-4BDC-BBAD-26963EB56FBE}"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6AFF2D-3136-41ED-9CE7-C461CA7B6D2D}"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99B7B9-1706-4BD1-B053-F93C8BB036E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39BABB-22BD-4028-8480-C807E9EE03DA}"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9A951C-C9DF-40C3-A473-4682A8B27167}"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07E208-AED0-4E95-A436-04C4F52CF97C}"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2BE307-9CBC-4C78-BE95-C52D1DCAC54D}"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D13A76-8523-467A-A649-03E3F9904B48}"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C428E6-AAD0-497B-BFBC-C51923903388}"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24ABC3-1997-4D97-AC78-6466260CA9A0}"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A1F5A7-1143-44B4-B1EF-1D516BEB28E8}"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332523-0929-4E82-AA82-04EFDC9B8107}"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D1DBE9-9639-4330-857A-9BB457A0A862}"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56EDAE-DA00-4FAE-85D8-9D923278F99B}"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E4DA24-CA8F-4291-8EA3-AC29514BBA52}"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98477E-57B4-4F24-82AB-894A1EF69904}"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8CC698-2C55-4908-978A-14B499D44DE8}"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5C5117-1B89-4FE6-9425-C579B30A8936}"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F4F3740-6401-4524-9BB7-431498551648}"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DA11A3-932D-406C-939B-21A0096C577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63457E-DEB7-4629-B955-35D083DC982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B20F2A-1603-4244-9F86-19216BE0B43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616230-2C35-4F8E-9687-97D5F0773D3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B652B1-C1B2-4CBE-B458-1AD2900D322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726E18-076C-4889-A13D-9F7A7B94AB6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9209A99-640C-4782-AD04-AE4B68FCEEF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B28301-0142-40CA-B514-C4E23A22A90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F96E15-5911-42F2-9DAC-A72AB9A559B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91494F-F26A-44FE-89BC-3585B4EE3B5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618A2D-9E41-4902-B37F-15F7A9384C9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6331D9-A53D-400F-B1FD-18657D2CAF2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18C281-04DA-4238-9CAC-58BC62A49C7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8251E8-4048-41B6-A40E-BE53AD473A9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99757E-A6A6-41BA-B7E0-78055792C00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B2A795-4346-4C56-84F2-C43F27E47A0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890B81-459E-4DF1-A04D-EA90457F307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5A2E54-D40E-4AC8-B081-843D59C877D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93FCED-6D89-4508-BDF6-9E1BA817F4E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DC8DA8-0D84-42C1-BC6A-AD0E586B823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1934AA-01E1-4754-862C-74F2AEC9585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1C3D2E-8F96-46E1-9FB0-5677DB66390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A38049-6B1B-480A-BF15-F309E770949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7C96FA-7C90-4148-8BBA-C917171827C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58B4F2-24C4-4C02-A57D-F94E5961511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86F547-D511-4D08-8482-515B8999374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435102-C6FE-47B1-98CF-BD906179C35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E71CF1-6966-4636-B93B-7C7E02E78BA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582F27-0970-4AC2-8A4A-D512049105F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6060FD-E5D4-4E8C-AFD2-13FE9BC82CB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DD0C69-9216-4CE5-922C-C1F094D8E46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311ECE-8D89-43ED-B228-07B1EB7BCAB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21CC78-39E3-4584-9081-DFD56BE157F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3F5577-F906-4795-8C11-CCD19A472B6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74DA1F-5A9A-467A-9B56-21DDE26CDAA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08251F-9096-45F6-82DF-543C1A1919C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5DCE67-667A-414B-B826-FEBE845B1BA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6C8BD3-A4F9-4244-831E-2539A477905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2E1DF3-11D0-4B16-BC23-C6AB6F244126}"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332FB7-D47C-4750-9621-124DB47662E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DF0C48-7C85-4FC0-8CDD-42F3A02EF222}"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019A15-0C94-45A5-89D3-0A8803695525}"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A998D7-9CD5-47AA-A7B7-0C337B5EF53C}"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B9F4E6-3C44-4F22-851C-AF90D36550F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B8A61C-9911-4431-958A-79D0FE17F3A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0A44A0-84F7-486D-99D3-54A8208DF85D}"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279414-3E11-4BAA-B503-11815BE36C1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C6968FB-13FB-4D60-BA0F-93FB24BFA04C}"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769CBD-9CC8-4813-95C8-039E77EC1A1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559021-B92A-48AF-AFDD-5024358FBBD0}"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4F2E9E-CE15-431E-AFBA-3A6DCA5F5809}"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944D69-FF76-4C3B-A357-B3197C6DFFFB}"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00A463-4D24-4518-B293-93C1933EF4CA}"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F0D09C-1B51-47A1-A564-A766BA0E8F5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A68FA7-45DB-4944-B04A-7D698FF02C5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531BDB-4FA3-4255-B7EE-2D0D9814C726}"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C7921D7-B582-4FAF-81E7-F4C82F69ECB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FA080D-C022-4054-8DF5-BB83175519C4}"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5E0317-3980-4D99-81D0-98C5BAB1DE9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362998-46D7-4783-8DAD-54EE87D28C52}"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DD2F99-9947-44F9-B895-E4F5667DA101}"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3CFC2A-8CBF-4217-B4F2-0F401423A41A}"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71F3BE-4815-46A0-90EB-C5CD3D62D29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E61243-883B-4ED5-B562-89C73917BB8D}"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47D1EF-73F5-48D8-B49D-040E51921E9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084EA1-32E5-4AE1-ADA7-BD6DDE414BB8}"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D5367F-61BC-4C77-BD38-9837CCD716C6}"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37882C-54C7-4D96-A79A-0F7B5455040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3D83FA-A9B4-40E4-8E31-5D023C8D09C6}"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C6D336-E65B-4D16-81A6-C2C811CC514A}"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D0ED96-9F14-47B1-A0A5-A175A8C79221}"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11AAE3E-EAD5-4BCB-9B34-1D92EC96F34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C7EC73-14E8-46DE-856E-5361AD63D418}"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33E985-F8B4-4DF4-9E08-C675931FC091}"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C4FB17-2667-44BF-BF9B-D42115DA800E}"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175DE9-6B32-4088-97B3-E5BFEEEAE66D}"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DE91F9-5147-4D4F-BD18-3FBEE261097C}"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28D3B6-747D-4F30-BDB6-372175C44226}"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C97F91-E15A-49B7-B66B-26DE17850220}"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CABB8B-9937-47E3-A522-9D4F6732B69A}"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DC34CF-4745-466B-8839-C1459B8A9558}"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5D0324-9CAC-400D-8C31-76F2A0DF0B66}"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ECCF74-E761-4295-9F6C-C476B2A20322}"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B905DA-7B73-4302-96A2-ADB771F4F1D3}"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31EE5C-DB34-4932-A763-A10C6DFBE562}"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