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52405"/>
        <c:axId val="5463443"/>
      </c:barChart>
      <c:catAx>
        <c:axId val="27852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3443"/>
        <c:crosses val="autoZero"/>
        <c:auto val="1"/>
        <c:lblAlgn val="ctr"/>
        <c:lblOffset val="100"/>
        <c:noMultiLvlLbl val="0"/>
      </c:catAx>
      <c:valAx>
        <c:axId val="5463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52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EBE-E2A6-4816-AB30-04890449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827-5D40-4617-AFFC-1DFE4E83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ADC-401B-4AC6-8B45-67095E74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839-9409-415D-8695-B57B62BC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E18-789B-409A-B8A9-971850DF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FAD-7052-47C9-85D9-9B38C5C2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304-7198-4E3B-9E26-03E83834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34B-8EB0-40EE-AE32-2644D737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77D-5500-4DB9-A192-87EB31E0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2A7-054C-48EB-B39C-93984DFC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A65-85F2-4522-9108-7016C1B3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B1D-BB39-415E-B19D-3CC42BD0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16685-2560-4D9C-981D-ED76489369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