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21645"/>
        <c:axId val="18520560"/>
      </c:barChart>
      <c:catAx>
        <c:axId val="2562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0560"/>
        <c:crosses val="autoZero"/>
        <c:auto val="1"/>
        <c:lblAlgn val="ctr"/>
        <c:lblOffset val="100"/>
        <c:noMultiLvlLbl val="0"/>
      </c:catAx>
      <c:valAx>
        <c:axId val="18520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2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8D5-8994-480D-A038-C6A6BFAC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8CB-F56A-448A-A817-ECD0F79F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943-7B4E-420B-93F4-8F35114B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507-6C77-49F1-90D9-9CAE89A6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837-FF1E-46DE-97D0-1C4034D1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BD7-9196-4714-9659-76FA1C4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306-7583-4DEA-807B-6AAC0C6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B6F-9C7A-4B58-856A-FCFD45F1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13B-DB1E-4F59-A011-B412976C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631-3531-4121-A1E5-50A713EC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9C5-492A-45D1-BF02-0455B8C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2FD-E046-454B-9CC2-029F8C63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F1BDA-8184-4965-8A05-FAC11EEFED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